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83413" cy="875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84000" cy="87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57480" y="-36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304640" y="655200"/>
            <a:ext cx="4375080" cy="32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31168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57480" y="831168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764113-3A53-4618-B604-0E070413B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D4D2090-1B47-4D15-9646-CACA9906717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EECE33-B319-432C-97AC-D54063D5FCF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A234AEF-CF0C-4A33-8508-AB4F4D93F4F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D7CA91-53EC-45D0-9490-1BA98B9C743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9181D0E-7F38-4118-A3D3-72A8AB755C8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85DC71-E3A4-4C61-B752-C26B4BD649B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982903-5FFC-45F8-8DA7-6047791F2A7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C4C-D2E9-44E4-B853-F4467A89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90C-472C-4F66-B10D-EDEBD477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CF0-B8E6-43FE-8C0B-C403D28E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3D3-6D36-4925-ABF3-78014445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0337-3F3F-4A84-A26A-6CE29B73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0962-D7C5-4B31-AB79-E7EB6572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2FCF-1D2B-4E8F-9E71-6EE66004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D916-7257-4171-B3E4-B2D68AB5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902C-60E1-456D-845A-1BFF65ED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9963-DBC7-4EDA-AC5A-16F6F564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0C51-FCDC-4821-94D7-BA012691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00B-96F9-4365-9AD5-2217838C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320E-48F6-4800-B1AE-F1934F5D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D292-1ADE-48D3-80C8-46817F21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E8F8-9E64-40BE-871B-6F645074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34DE-3F3E-4D65-92EC-F17FC1BF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F108-0D73-46FA-8BCC-F44644CE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8ACE-212F-415F-A68B-1FB3D922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8C6-A47F-4697-A18C-60BB5F3C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E60-A8FF-4E4C-8C4F-05D9B19A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D18-0226-4E62-A81F-696B1C83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2C9-C5B1-4AD8-A226-590D5D0F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10E1-1B90-4BA7-9049-8FFDFA5F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C63-B918-4015-8D51-DFE89E77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D557-E0D1-43A9-885C-4823D952B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0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7" name="Object 10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9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47" name="Object 9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E880-5C62-4FA1-B33D-39053EB36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87200" y="1523880"/>
            <a:ext cx="8804520" cy="4953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28600" y="160020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Vulnerability Enumeration (CV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Platform Enumeration (CP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Remediation Enumeration (CR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ed Remediation Information (ER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Control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Policy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mediation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16002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6858000" y="2949480"/>
            <a:ext cx="99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86000" y="2514600"/>
            <a:ext cx="449568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286000" y="2754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243828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4343400" y="4648320"/>
            <a:ext cx="15238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63244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2971800" y="4648320"/>
            <a:ext cx="12952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41148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3048120" y="4800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523880" y="46483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61722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 flipV="1">
            <a:off x="25909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39625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175248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320040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640080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76201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1523880" y="46483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uble Ticketing System (Remed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4343400" y="4800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Remediation Tool (SR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763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a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n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895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19051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2286000" y="32004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ocal Remediation Policy Edi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isk Management Process Sup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5943600" y="4648320"/>
            <a:ext cx="16002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1"/>
          <p:cNvSpPr/>
          <p:nvPr/>
        </p:nvSpPr>
        <p:spPr>
          <a:xfrm>
            <a:off x="5943600" y="479124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Distribution (Patch Too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 flipV="1">
            <a:off x="56386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54864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464832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1600200" y="2949480"/>
            <a:ext cx="762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78168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6095880" y="5943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USutil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2971800" y="58672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add, Dsmod, Dsrm, Dsmove, LDIF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4491000" y="5867280"/>
            <a:ext cx="97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edit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LS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362320" y="152280"/>
            <a:ext cx="4800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mediation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 rot="16200000">
            <a:off x="4191120" y="1371240"/>
            <a:ext cx="1523880" cy="3809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3200400" y="3059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762120" y="3429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762120" y="2971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762120" y="35812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s Reporting on tas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411480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5486400" y="41860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Registry Settings equivalent to using 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4800600" y="480060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File Permissions equivalent to using CACLS.ex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4114800" y="541008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Policy Changes equivalent to using secedit.exe command l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0"/>
          <p:cNvSpPr/>
          <p:nvPr/>
        </p:nvSpPr>
        <p:spPr>
          <a:xfrm>
            <a:off x="762120" y="228600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pts CRE, Parameters, and ID Tasking or XML file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5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3733920" y="5068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7"/>
          <p:cNvSpPr/>
          <p:nvPr/>
        </p:nvSpPr>
        <p:spPr>
          <a:xfrm>
            <a:off x="3733920" y="40384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>
            <a:off x="3352680" y="5678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21"/>
          <p:cNvSpPr/>
          <p:nvPr/>
        </p:nvSpPr>
        <p:spPr>
          <a:xfrm>
            <a:off x="3352680" y="403848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ackup Slid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an 25"/>
          <p:cNvSpPr/>
          <p:nvPr/>
        </p:nvSpPr>
        <p:spPr>
          <a:xfrm>
            <a:off x="3657600" y="2971800"/>
            <a:ext cx="121932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age Polici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14400" y="15238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676520" y="17524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676520" y="4724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E/ERI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n 23"/>
          <p:cNvSpPr/>
          <p:nvPr/>
        </p:nvSpPr>
        <p:spPr>
          <a:xfrm>
            <a:off x="3657600" y="167652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n 24"/>
          <p:cNvSpPr/>
          <p:nvPr/>
        </p:nvSpPr>
        <p:spPr>
          <a:xfrm>
            <a:off x="3657600" y="4648320"/>
            <a:ext cx="121932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wn Arrow 29"/>
          <p:cNvSpPr/>
          <p:nvPr/>
        </p:nvSpPr>
        <p:spPr>
          <a:xfrm rot="16200000">
            <a:off x="2590920" y="1828800"/>
            <a:ext cx="1218960" cy="914400"/>
          </a:xfrm>
          <a:prstGeom prst="downArrow">
            <a:avLst>
              <a:gd name="adj1" fmla="val 78389"/>
              <a:gd name="adj2" fmla="val 2037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New Polic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own Arrow 30"/>
          <p:cNvSpPr/>
          <p:nvPr/>
        </p:nvSpPr>
        <p:spPr>
          <a:xfrm rot="16200000">
            <a:off x="2629080" y="4762440"/>
            <a:ext cx="1218960" cy="990720"/>
          </a:xfrm>
          <a:prstGeom prst="downArrow">
            <a:avLst>
              <a:gd name="adj1" fmla="val 78611"/>
              <a:gd name="adj2" fmla="val 2000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Known Remedi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xplosion 1 32"/>
          <p:cNvSpPr/>
          <p:nvPr/>
        </p:nvSpPr>
        <p:spPr>
          <a:xfrm>
            <a:off x="5638680" y="1600200"/>
            <a:ext cx="1981440" cy="160020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cal Policy Edi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n 33"/>
          <p:cNvSpPr/>
          <p:nvPr/>
        </p:nvSpPr>
        <p:spPr>
          <a:xfrm>
            <a:off x="55627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 &amp; Groups by To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eft-Right Arrow 35"/>
          <p:cNvSpPr/>
          <p:nvPr/>
        </p:nvSpPr>
        <p:spPr>
          <a:xfrm rot="17211600">
            <a:off x="5673600" y="3171600"/>
            <a:ext cx="1524240" cy="685800"/>
          </a:xfrm>
          <a:prstGeom prst="leftRightArrow">
            <a:avLst>
              <a:gd name="adj1" fmla="val 50000"/>
              <a:gd name="adj2" fmla="val 447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Policies to each tool for  Devices &amp;Device Grou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eft-Right Arrow 36"/>
          <p:cNvSpPr/>
          <p:nvPr/>
        </p:nvSpPr>
        <p:spPr>
          <a:xfrm rot="382800">
            <a:off x="4648320" y="1981080"/>
            <a:ext cx="1447560" cy="609840"/>
          </a:xfrm>
          <a:prstGeom prst="leftRightArrow">
            <a:avLst>
              <a:gd name="adj1" fmla="val 50000"/>
              <a:gd name="adj2" fmla="val 58023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and Sav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eft-Right Arrow 37"/>
          <p:cNvSpPr/>
          <p:nvPr/>
        </p:nvSpPr>
        <p:spPr>
          <a:xfrm rot="18663600">
            <a:off x="4000320" y="3465360"/>
            <a:ext cx="2714400" cy="438120"/>
          </a:xfrm>
          <a:prstGeom prst="leftRightArrow">
            <a:avLst>
              <a:gd name="adj1" fmla="val 50000"/>
              <a:gd name="adj2" fmla="val 5340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Create, &amp; Store Remedi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371600" y="1828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1371600" y="2514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1371600" y="4800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5486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676520" y="33526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1371600" y="34290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1371600" y="4114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8"/>
          <p:cNvSpPr/>
          <p:nvPr/>
        </p:nvSpPr>
        <p:spPr>
          <a:xfrm>
            <a:off x="2743200" y="3200400"/>
            <a:ext cx="990720" cy="1371600"/>
          </a:xfrm>
          <a:prstGeom prst="leftArrow">
            <a:avLst>
              <a:gd name="adj1" fmla="val 71602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Locally Created Remediations &amp;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eft-Right Arrow 37"/>
          <p:cNvSpPr/>
          <p:nvPr/>
        </p:nvSpPr>
        <p:spPr>
          <a:xfrm rot="20280000">
            <a:off x="4114440" y="2743200"/>
            <a:ext cx="2176560" cy="438120"/>
          </a:xfrm>
          <a:prstGeom prst="leftRightArrow">
            <a:avLst>
              <a:gd name="adj1" fmla="val 50000"/>
              <a:gd name="adj2" fmla="val 4282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, Edit, Create, &amp; Store Mitigations and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an 33"/>
          <p:cNvSpPr/>
          <p:nvPr/>
        </p:nvSpPr>
        <p:spPr>
          <a:xfrm>
            <a:off x="71629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ool 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eft-Right Arrow 35"/>
          <p:cNvSpPr/>
          <p:nvPr/>
        </p:nvSpPr>
        <p:spPr>
          <a:xfrm rot="3470400">
            <a:off x="6734160" y="3159000"/>
            <a:ext cx="1828800" cy="691920"/>
          </a:xfrm>
          <a:prstGeom prst="leftRightArrow">
            <a:avLst>
              <a:gd name="adj1" fmla="val 50000"/>
              <a:gd name="adj2" fmla="val 5326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Identify which remediations/mitigations each tool can imple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04920" y="160020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ecute Policy-Based Remedi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7238880" y="3581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229600" y="3657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8229600" y="4343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7238880" y="4800600"/>
            <a:ext cx="1143000" cy="10666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us Pars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8229600" y="55627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297180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312408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37339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n 26"/>
          <p:cNvSpPr/>
          <p:nvPr/>
        </p:nvSpPr>
        <p:spPr>
          <a:xfrm>
            <a:off x="1828800" y="3886200"/>
            <a:ext cx="220968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n 27"/>
          <p:cNvSpPr/>
          <p:nvPr/>
        </p:nvSpPr>
        <p:spPr>
          <a:xfrm>
            <a:off x="5334120" y="220968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9"/>
          <p:cNvGrpSpPr/>
          <p:nvPr/>
        </p:nvGrpSpPr>
        <p:grpSpPr>
          <a:xfrm>
            <a:off x="1752480" y="4800240"/>
            <a:ext cx="1067040" cy="2057400"/>
            <a:chOff x="1752480" y="4800240"/>
            <a:chExt cx="1067040" cy="2057400"/>
          </a:xfrm>
        </p:grpSpPr>
        <p:sp>
          <p:nvSpPr>
            <p:cNvPr id="191" name="Rectangle 5"/>
            <p:cNvSpPr/>
            <p:nvPr/>
          </p:nvSpPr>
          <p:spPr>
            <a:xfrm rot="16200000">
              <a:off x="1714320" y="5371560"/>
              <a:ext cx="1143000" cy="106704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 rot="16200000">
              <a:off x="17139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16200000">
              <a:off x="240012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ight Arrow 31"/>
            <p:cNvSpPr/>
            <p:nvPr/>
          </p:nvSpPr>
          <p:spPr>
            <a:xfrm rot="16200000">
              <a:off x="2057400" y="4723920"/>
              <a:ext cx="685800" cy="83844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Explosion 1 38"/>
          <p:cNvSpPr/>
          <p:nvPr/>
        </p:nvSpPr>
        <p:spPr>
          <a:xfrm>
            <a:off x="2971800" y="1600200"/>
            <a:ext cx="1600200" cy="129528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ask Buil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eft-Right Arrow 40"/>
          <p:cNvSpPr/>
          <p:nvPr/>
        </p:nvSpPr>
        <p:spPr>
          <a:xfrm rot="17008200">
            <a:off x="2770200" y="2868120"/>
            <a:ext cx="1600200" cy="739800"/>
          </a:xfrm>
          <a:prstGeom prst="leftRightArrow">
            <a:avLst>
              <a:gd name="adj1" fmla="val 50000"/>
              <a:gd name="adj2" fmla="val 2067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Mitigations, Alternatie Remediations, &amp; Accept Risk based on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n 23"/>
          <p:cNvSpPr/>
          <p:nvPr/>
        </p:nvSpPr>
        <p:spPr>
          <a:xfrm>
            <a:off x="380880" y="266688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n 33"/>
          <p:cNvSpPr/>
          <p:nvPr/>
        </p:nvSpPr>
        <p:spPr>
          <a:xfrm>
            <a:off x="380880" y="1600200"/>
            <a:ext cx="129564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&amp;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eft-Right Arrow 40"/>
          <p:cNvSpPr/>
          <p:nvPr/>
        </p:nvSpPr>
        <p:spPr>
          <a:xfrm rot="460200">
            <a:off x="1512360" y="1947600"/>
            <a:ext cx="1819440" cy="436320"/>
          </a:xfrm>
          <a:prstGeom prst="leftRightArrow">
            <a:avLst>
              <a:gd name="adj1" fmla="val 50000"/>
              <a:gd name="adj2" fmla="val 39866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Locate devices in groups to determine applicabl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eft-Right Arrow 40"/>
          <p:cNvSpPr/>
          <p:nvPr/>
        </p:nvSpPr>
        <p:spPr>
          <a:xfrm rot="20306400">
            <a:off x="1512720" y="2643120"/>
            <a:ext cx="1981440" cy="436680"/>
          </a:xfrm>
          <a:prstGeom prst="leftRightArrow">
            <a:avLst>
              <a:gd name="adj1" fmla="val 50000"/>
              <a:gd name="adj2" fmla="val 3985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eive Policies for each device &amp; look up remedi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3048120" y="4800600"/>
            <a:ext cx="990360" cy="685800"/>
          </a:xfrm>
          <a:prstGeom prst="downArrow">
            <a:avLst>
              <a:gd name="adj1" fmla="val 68907"/>
              <a:gd name="adj2" fmla="val 322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s &amp; Mitig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eft-Right Arrow 40"/>
          <p:cNvSpPr/>
          <p:nvPr/>
        </p:nvSpPr>
        <p:spPr>
          <a:xfrm rot="957600">
            <a:off x="4038120" y="2437920"/>
            <a:ext cx="1447920" cy="436680"/>
          </a:xfrm>
          <a:prstGeom prst="leftRightArrow">
            <a:avLst>
              <a:gd name="adj1" fmla="val 50000"/>
              <a:gd name="adj2" fmla="val 3169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mediation Tasks Assigned to Too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xplosion 1 38"/>
          <p:cNvSpPr/>
          <p:nvPr/>
        </p:nvSpPr>
        <p:spPr>
          <a:xfrm>
            <a:off x="5257800" y="3809880"/>
            <a:ext cx="1600200" cy="129564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Workflow Manag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eft-Right Arrow 40"/>
          <p:cNvSpPr/>
          <p:nvPr/>
        </p:nvSpPr>
        <p:spPr>
          <a:xfrm rot="16483800">
            <a:off x="52012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New Taskings Retreiv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eft-Right Arrow 40"/>
          <p:cNvSpPr/>
          <p:nvPr/>
        </p:nvSpPr>
        <p:spPr>
          <a:xfrm rot="20763600">
            <a:off x="6400800" y="3962520"/>
            <a:ext cx="1066680" cy="436320"/>
          </a:xfrm>
          <a:prstGeom prst="leftRightArrow">
            <a:avLst>
              <a:gd name="adj1" fmla="val 50000"/>
              <a:gd name="adj2" fmla="val 2337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Tasks Assigned for Public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eft-Right Arrow 40"/>
          <p:cNvSpPr/>
          <p:nvPr/>
        </p:nvSpPr>
        <p:spPr>
          <a:xfrm rot="1420800">
            <a:off x="5866920" y="4952880"/>
            <a:ext cx="1676520" cy="436680"/>
          </a:xfrm>
          <a:prstGeom prst="leftRightArrow">
            <a:avLst>
              <a:gd name="adj1" fmla="val 50000"/>
              <a:gd name="adj2" fmla="val 36704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Provided for Processing &amp; Displa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eft-Right Arrow 40"/>
          <p:cNvSpPr/>
          <p:nvPr/>
        </p:nvSpPr>
        <p:spPr>
          <a:xfrm rot="16483800">
            <a:off x="56584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Stor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port Remediation and Risk Acceptance Statu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1676520"/>
            <a:ext cx="807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655308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67057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731520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26"/>
          <p:cNvSpPr/>
          <p:nvPr/>
        </p:nvSpPr>
        <p:spPr>
          <a:xfrm>
            <a:off x="5410080" y="3886200"/>
            <a:ext cx="221004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9"/>
          <p:cNvGrpSpPr/>
          <p:nvPr/>
        </p:nvGrpSpPr>
        <p:grpSpPr>
          <a:xfrm>
            <a:off x="5334120" y="4800240"/>
            <a:ext cx="1066680" cy="2057400"/>
            <a:chOff x="5334120" y="4800240"/>
            <a:chExt cx="1066680" cy="2057400"/>
          </a:xfrm>
        </p:grpSpPr>
        <p:sp>
          <p:nvSpPr>
            <p:cNvPr id="215" name="Rectangle 5"/>
            <p:cNvSpPr/>
            <p:nvPr/>
          </p:nvSpPr>
          <p:spPr>
            <a:xfrm rot="16200000">
              <a:off x="5295960" y="5371920"/>
              <a:ext cx="1143000" cy="106668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 rot="16200000">
              <a:off x="529560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 rot="16200000">
              <a:off x="59817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ight Arrow 31"/>
            <p:cNvSpPr/>
            <p:nvPr/>
          </p:nvSpPr>
          <p:spPr>
            <a:xfrm rot="16200000">
              <a:off x="5638680" y="4723920"/>
              <a:ext cx="685800" cy="83808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Can 25"/>
          <p:cNvSpPr/>
          <p:nvPr/>
        </p:nvSpPr>
        <p:spPr>
          <a:xfrm>
            <a:off x="533520" y="4648320"/>
            <a:ext cx="121896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an 24"/>
          <p:cNvSpPr/>
          <p:nvPr/>
        </p:nvSpPr>
        <p:spPr>
          <a:xfrm>
            <a:off x="533520" y="3733920"/>
            <a:ext cx="121896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0"/>
          <p:cNvSpPr/>
          <p:nvPr/>
        </p:nvSpPr>
        <p:spPr>
          <a:xfrm>
            <a:off x="6477120" y="4724280"/>
            <a:ext cx="1295280" cy="762120"/>
          </a:xfrm>
          <a:prstGeom prst="downArrow">
            <a:avLst>
              <a:gd name="adj1" fmla="val 83824"/>
              <a:gd name="adj2" fmla="val 321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 Mitigations/ Exceptions &amp; Remediation Failur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xplosion 1 38"/>
          <p:cNvSpPr/>
          <p:nvPr/>
        </p:nvSpPr>
        <p:spPr>
          <a:xfrm>
            <a:off x="2438280" y="1523880"/>
            <a:ext cx="1752840" cy="236232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tigation and Exception Reporting Eng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eft-Right Arrow 40"/>
          <p:cNvSpPr/>
          <p:nvPr/>
        </p:nvSpPr>
        <p:spPr>
          <a:xfrm rot="1581000">
            <a:off x="3429000" y="3733920"/>
            <a:ext cx="2562120" cy="436320"/>
          </a:xfrm>
          <a:prstGeom prst="leftRightArrow">
            <a:avLst>
              <a:gd name="adj1" fmla="val 50000"/>
              <a:gd name="adj2" fmla="val 5613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Provide Mitigation and Exception Documentation to Unremediated Non-compliant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eft-Right Arrow 40"/>
          <p:cNvSpPr/>
          <p:nvPr/>
        </p:nvSpPr>
        <p:spPr>
          <a:xfrm rot="19075200">
            <a:off x="914400" y="4038120"/>
            <a:ext cx="2562120" cy="436680"/>
          </a:xfrm>
          <a:prstGeom prst="leftRightArrow">
            <a:avLst>
              <a:gd name="adj1" fmla="val 50000"/>
              <a:gd name="adj2" fmla="val 5609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Exception and Mitigation Detai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an 27"/>
          <p:cNvSpPr/>
          <p:nvPr/>
        </p:nvSpPr>
        <p:spPr>
          <a:xfrm>
            <a:off x="5791320" y="205740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eft-Right Arrow 40"/>
          <p:cNvSpPr/>
          <p:nvPr/>
        </p:nvSpPr>
        <p:spPr>
          <a:xfrm rot="21008400">
            <a:off x="3728520" y="2284560"/>
            <a:ext cx="2210040" cy="838080"/>
          </a:xfrm>
          <a:prstGeom prst="leftRightArrow">
            <a:avLst>
              <a:gd name="adj1" fmla="val 50000"/>
              <a:gd name="adj2" fmla="val 2521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Completed Mitigation Tasks and Incomplete Remediation Task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3:29:36Z</dcterms:created>
  <dc:creator>.</dc:creator>
  <dc:description/>
  <dc:language>en-US</dc:language>
  <cp:lastModifiedBy>sboczeno</cp:lastModifiedBy>
  <dcterms:modified xsi:type="dcterms:W3CDTF">2010-07-07T14:41:16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ssification">
    <vt:lpwstr>UNCLASSIFIED</vt:lpwstr>
  </property>
  <property fmtid="{D5CDD505-2E9C-101B-9397-08002B2CF9AE}" pid="3" name="Dissemination">
    <vt:lpwstr>FOR OFFICIAL USE ONLY</vt:lpwstr>
  </property>
</Properties>
</file>